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21420-2954-4D88-8AE3-60C4A1C9D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63605-36E8-48F2-B34D-0BDB85770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E2AD2-E325-4471-A424-803A424E5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83F3E-2CFA-43C7-BB58-0EECAF97C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3248D3-4E75-44C9-B5AF-B03862CF07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F28F4-39D3-4A44-AE3D-CCF97D325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C509D-F98E-4BD3-915D-E87D41740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9FE22-70FC-4C2A-944F-5248C4AB8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4AE74-E69F-4A19-AE33-AF3C0B697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7CFE9-DA2A-4003-A327-E54BB6356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C73A8-CE97-4330-AB2F-BD6C04F9A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D0647-3410-45BC-B1AE-00D8543D6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AFEB3-3808-480B-977B-9BD678757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9DAC2-1AA6-4E2F-9685-BE7E27652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E263C-0241-47B1-9EA2-37D22D875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6BDE9E-497F-480A-ABCE-91FCCEAAF9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8CA78F-F958-4011-8A1B-36C71EAD0D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1B9B3-1816-4CE6-BFD4-868B966B8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029FF-D521-4C51-9170-DDFB0FF39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8C79E-4871-4BF2-AA0D-AFABC35DD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8832A-62D6-463A-B5D1-0ABDF6268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E7F80-48B6-40B5-B359-6DBFB1AF3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3D0A5-8A15-48D8-800B-496DC0AB6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64757-931D-469B-B52E-50439AA29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92ABF-05D5-4733-87DE-B0BB9D2083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05424-C121-4DAF-AE20-E238E265E5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The Crucible</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witch hunt and a metaph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685800" y="762120"/>
            <a:ext cx="7315200" cy="710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Crucible was Arthur Miller’s way of protesting the House Unamerican Activities Committee hearings. He compared the Communist hearings to the witch hunts of Salem, where gossip, rumors, and fear were evidence enough to convict people.</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term “witch hunt” now applies to any activity where people are looking for a scapegoat or where they are using accusations to get revenge or to get personal gain or attention</a:t>
            </a:r>
            <a:r>
              <a:rPr b="0" lang="en-US" sz="2800" spc="-1" strike="noStrike">
                <a:solidFill>
                  <a:srgbClr val="ffffff"/>
                </a:solidFill>
                <a:latin typeface="Garamond"/>
              </a:rPr>
              <a:t>.</a:t>
            </a:r>
            <a:r>
              <a:rPr b="0" lang="en-US" sz="2800" spc="-1" strike="noStrike">
                <a:solidFill>
                  <a:srgbClr val="ffffff"/>
                </a:solidFill>
                <a:latin typeface="Garamond"/>
              </a:rPr>
              <a:t> </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457200" y="685800"/>
            <a:ext cx="8229600" cy="597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REFLECTION (150 + words)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ased on what you’ve heard about the Salem Witch Trials and the McCarthy hearings, write a paragraph detailing any connections you see between the two occurrences.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y do you think Arthur Miller chose to use the period of history (1692) that he chose? Why didn’t he just write about the Red Scare and the McCarthy trials?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re there any differences between the two occurrences (other than the obvious things, like time periods and clothes, etc.)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w do you think both of these “witch hunts” were stopped eventuall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457200" y="762120"/>
            <a:ext cx="76201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In the 1600s, Puritans settled on the East coast of the United States. They brought with them the hope of religious freedom, but instead became embroiled in hysteria over the existence of witches. They had been persecuted in their native England, but they created a theocracy and eventually persecuted others.</a:t>
            </a:r>
            <a:r>
              <a:rPr b="0" lang="en-US" sz="3200" spc="-1" strike="noStrike">
                <a:solidFill>
                  <a:srgbClr val="000000"/>
                </a:solidFill>
                <a:latin typeface="Garamond"/>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10;images.jpg                                                     000638A4_x000c_Macintosh HD                   BEF735E4:"/>
          <p:cNvPicPr/>
          <p:nvPr/>
        </p:nvPicPr>
        <p:blipFill>
          <a:blip r:embed="rId1"/>
          <a:stretch/>
        </p:blipFill>
        <p:spPr>
          <a:xfrm>
            <a:off x="3809880" y="3352680"/>
            <a:ext cx="5029200" cy="3168720"/>
          </a:xfrm>
          <a:prstGeom prst="rect">
            <a:avLst/>
          </a:prstGeom>
          <a:ln w="0">
            <a:noFill/>
          </a:ln>
        </p:spPr>
      </p:pic>
      <p:sp>
        <p:nvSpPr>
          <p:cNvPr id="124" name="Text Box 3"/>
          <p:cNvSpPr/>
          <p:nvPr/>
        </p:nvSpPr>
        <p:spPr>
          <a:xfrm>
            <a:off x="685800" y="533520"/>
            <a:ext cx="822960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st of those accused of being witches were women.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ny were healers, and used plants to heal people.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ny were without family, and this made them easy target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y were people who did not fit in with the mainstream for some reas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3"/>
          <p:cNvSpPr/>
          <p:nvPr/>
        </p:nvSpPr>
        <p:spPr>
          <a:xfrm>
            <a:off x="0" y="22860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ne of the ways most witches were accused was with the use of “spectral evidence.” If someone said they had seen the accused with the devil in a dream, or that the accused had visited them in the night, or had hurt them, it was taken as evidence that the devil was at work.</a:t>
            </a:r>
            <a:r>
              <a:rPr b="0" lang="en-US" sz="2800" spc="-1" strike="noStrike">
                <a:solidFill>
                  <a:srgbClr val="ffffff"/>
                </a:solidFill>
                <a:latin typeface="Garamond"/>
              </a:rPr>
              <a:t> </a:t>
            </a:r>
            <a:endParaRPr b="0" lang="en-US" sz="2800" spc="-1" strike="noStrike">
              <a:solidFill>
                <a:srgbClr val="ffffff"/>
              </a:solidFill>
              <a:latin typeface="Times New Roman"/>
            </a:endParaRPr>
          </a:p>
        </p:txBody>
      </p:sp>
      <p:sp>
        <p:nvSpPr>
          <p:cNvPr id="126" name="Text Box 6"/>
          <p:cNvSpPr/>
          <p:nvPr/>
        </p:nvSpPr>
        <p:spPr>
          <a:xfrm>
            <a:off x="6172200" y="3200400"/>
            <a:ext cx="297180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 executed</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etween 175 to 200 imprisoned</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457200" y="533520"/>
            <a:ext cx="8381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Garamond"/>
              </a:rPr>
              <a:t>How did it start?</a:t>
            </a:r>
            <a:endParaRPr b="0" lang="en-US" sz="4400" spc="-1" strike="noStrike">
              <a:solidFill>
                <a:srgbClr val="ffffff"/>
              </a:solidFill>
              <a:latin typeface="Times New Roman"/>
            </a:endParaRPr>
          </a:p>
        </p:txBody>
      </p:sp>
      <p:sp>
        <p:nvSpPr>
          <p:cNvPr id="128" name="Text Box 4"/>
          <p:cNvSpPr/>
          <p:nvPr/>
        </p:nvSpPr>
        <p:spPr>
          <a:xfrm>
            <a:off x="304920" y="15238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Garamond"/>
              </a:rPr>
              <a:t>In 1692, several girls in the village of Salem, Massachusetts became intrigued when a West Indian servant told them stories of magic and voodoo from her native land.</a:t>
            </a:r>
            <a:r>
              <a:rPr b="1" lang="en-US" sz="2400" spc="-1" strike="noStrike">
                <a:solidFill>
                  <a:srgbClr val="003366"/>
                </a:solidFill>
                <a:latin typeface="Times New Roman"/>
              </a:rPr>
              <a:t> </a:t>
            </a:r>
            <a:endParaRPr b="0" lang="en-US" sz="2400" spc="-1" strike="noStrike">
              <a:solidFill>
                <a:srgbClr val="ffffff"/>
              </a:solidFill>
              <a:latin typeface="Times New Roman"/>
            </a:endParaRPr>
          </a:p>
        </p:txBody>
      </p:sp>
      <p:sp>
        <p:nvSpPr>
          <p:cNvPr id="129" name="Text Box 5"/>
          <p:cNvSpPr/>
          <p:nvPr/>
        </p:nvSpPr>
        <p:spPr>
          <a:xfrm>
            <a:off x="380880" y="289548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Garamond"/>
              </a:rPr>
              <a:t>Bored and restricted by the oppressive Puritan life, the girls slipped into the woods one night and “conjured” love charms and hexes.</a:t>
            </a:r>
            <a:r>
              <a:rPr b="0" lang="en-US" sz="2400" spc="-1" strike="noStrike">
                <a:solidFill>
                  <a:srgbClr val="003366"/>
                </a:solidFill>
                <a:latin typeface="Times New Roman"/>
              </a:rPr>
              <a:t> </a:t>
            </a:r>
            <a:endParaRPr b="0" lang="en-US" sz="2400" spc="-1" strike="noStrike">
              <a:solidFill>
                <a:srgbClr val="ffffff"/>
              </a:solidFill>
              <a:latin typeface="Times New Roman"/>
            </a:endParaRPr>
          </a:p>
        </p:txBody>
      </p:sp>
      <p:sp>
        <p:nvSpPr>
          <p:cNvPr id="130" name="Text Box 6"/>
          <p:cNvSpPr/>
          <p:nvPr/>
        </p:nvSpPr>
        <p:spPr>
          <a:xfrm>
            <a:off x="380880" y="4495680"/>
            <a:ext cx="8305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Garamond"/>
              </a:rPr>
              <a:t>One girl, Betty Parris, slipped into unconsciousness when her father caught them. She wouldn’t wake up, and this started the discussion of witchcraft. To avoid punishment, the girls created the story of the “witches” who made them dance and conjure the spells.</a:t>
            </a:r>
            <a:r>
              <a:rPr b="0" lang="en-US" sz="2400" spc="-1" strike="noStrike">
                <a:solidFill>
                  <a:srgbClr val="003366"/>
                </a:solidFill>
                <a:latin typeface="Garamond"/>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9814912" presetSubtype="129823824">
                                  <p:stCondLst>
                                    <p:cond delay="0"/>
                                  </p:stCondLst>
                                  <p:childTnLst>
                                    <p:set>
                                      <p:cBhvr>
                                        <p:cTn id="6" dur="1" fill="hold">
                                          <p:stCondLst>
                                            <p:cond delay="499"/>
                                          </p:stCondLst>
                                        </p:cTn>
                                        <p:tgtEl>
                                          <p:spTgt spid="12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29814912" presetSubtype="129824000">
                                  <p:stCondLst>
                                    <p:cond delay="0"/>
                                  </p:stCondLst>
                                  <p:childTnLst>
                                    <p:set>
                                      <p:cBhvr>
                                        <p:cTn id="10" dur="1" fill="hold">
                                          <p:stCondLst>
                                            <p:cond delay="499"/>
                                          </p:stCondLst>
                                        </p:cTn>
                                        <p:tgtEl>
                                          <p:spTgt spid="12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29814912" presetSubtype="129824168">
                                  <p:stCondLst>
                                    <p:cond delay="0"/>
                                  </p:stCondLst>
                                  <p:childTnLst>
                                    <p:set>
                                      <p:cBhvr>
                                        <p:cTn id="14"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380880" y="3808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Why did it happen?</a:t>
            </a:r>
            <a:endParaRPr b="0" lang="en-US" sz="3600" spc="-1" strike="noStrike">
              <a:solidFill>
                <a:srgbClr val="ffffff"/>
              </a:solidFill>
              <a:latin typeface="Times New Roman"/>
            </a:endParaRPr>
          </a:p>
        </p:txBody>
      </p:sp>
      <p:sp>
        <p:nvSpPr>
          <p:cNvPr id="132" name="Text Box 3"/>
          <p:cNvSpPr/>
          <p:nvPr/>
        </p:nvSpPr>
        <p:spPr>
          <a:xfrm>
            <a:off x="380880" y="129528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t began as a way for the oppressed girls to avoid being punished.</a:t>
            </a: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 name="Text Box 4"/>
          <p:cNvSpPr/>
          <p:nvPr/>
        </p:nvSpPr>
        <p:spPr>
          <a:xfrm>
            <a:off x="457200" y="220968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t then became an ideal way to get revenge on anyone whom you disliked.</a:t>
            </a:r>
            <a:endParaRPr b="0" lang="en-US" sz="2400" spc="-1" strike="noStrike">
              <a:solidFill>
                <a:srgbClr val="ffffff"/>
              </a:solidFill>
              <a:latin typeface="Times New Roman"/>
            </a:endParaRPr>
          </a:p>
        </p:txBody>
      </p:sp>
      <p:sp>
        <p:nvSpPr>
          <p:cNvPr id="134" name="Text Box 5"/>
          <p:cNvSpPr/>
          <p:nvPr/>
        </p:nvSpPr>
        <p:spPr>
          <a:xfrm>
            <a:off x="380880" y="2590920"/>
            <a:ext cx="8305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eople started accusing their neighbors of being witches so they could steal their farmland.</a:t>
            </a:r>
            <a:endParaRPr b="0" lang="en-US" sz="2400" spc="-1" strike="noStrike">
              <a:solidFill>
                <a:srgbClr val="ffffff"/>
              </a:solidFill>
              <a:latin typeface="Times New Roman"/>
            </a:endParaRPr>
          </a:p>
        </p:txBody>
      </p:sp>
      <p:sp>
        <p:nvSpPr>
          <p:cNvPr id="135" name="Text Box 6"/>
          <p:cNvSpPr/>
          <p:nvPr/>
        </p:nvSpPr>
        <p:spPr>
          <a:xfrm>
            <a:off x="380880" y="434340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eople accused others of being witches if they wanted to steal their husbands or wives or possess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32"/>
                                        </p:tgtEl>
                                        <p:attrNameLst>
                                          <p:attrName>style.visibility</p:attrName>
                                        </p:attrNameLst>
                                      </p:cBhvr>
                                      <p:to>
                                        <p:strVal val="visible"/>
                                      </p:to>
                                    </p:set>
                                    <p:animEffect filter="box(in)" transition="in">
                                      <p:cBhvr additive="repl">
                                        <p:cTn id="21" dur="500"/>
                                        <p:tgtEl>
                                          <p:spTgt spid="132"/>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133"/>
                                        </p:tgtEl>
                                        <p:attrNameLst>
                                          <p:attrName>style.visibility</p:attrName>
                                        </p:attrNameLst>
                                      </p:cBhvr>
                                      <p:to>
                                        <p:strVal val="visible"/>
                                      </p:to>
                                    </p:set>
                                    <p:animEffect filter="box(in)" transition="in">
                                      <p:cBhvr additive="repl">
                                        <p:cTn id="26" dur="500"/>
                                        <p:tgtEl>
                                          <p:spTgt spid="13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34"/>
                                        </p:tgtEl>
                                        <p:attrNameLst>
                                          <p:attrName>style.visibility</p:attrName>
                                        </p:attrNameLst>
                                      </p:cBhvr>
                                      <p:to>
                                        <p:strVal val="visible"/>
                                      </p:to>
                                    </p:set>
                                    <p:animEffect filter="box(in)" transition="in">
                                      <p:cBhvr additive="repl">
                                        <p:cTn id="31" dur="500"/>
                                        <p:tgtEl>
                                          <p:spTgt spid="134"/>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135"/>
                                        </p:tgtEl>
                                        <p:attrNameLst>
                                          <p:attrName>style.visibility</p:attrName>
                                        </p:attrNameLst>
                                      </p:cBhvr>
                                      <p:to>
                                        <p:strVal val="visible"/>
                                      </p:to>
                                    </p:set>
                                    <p:animEffect filter="box(in)" transition="in">
                                      <p:cBhvr additive="repl">
                                        <p:cTn id="3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3"/>
          <p:cNvSpPr/>
          <p:nvPr/>
        </p:nvSpPr>
        <p:spPr>
          <a:xfrm>
            <a:off x="684360" y="533520"/>
            <a:ext cx="784836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ose accused of being witches were most often found guilty.  Sometimes they were sentenced to be tied to a rock  dunked in a pond, and if they sank, they were declared innocent. Innocent. If they somehow survived the dunking, they were obviously witches, and they were executed.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ost of those found guilty of witchcraft were hung.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e man was pressed to death with rocks because he refused to plead guilty or innocent, insuring that his sons still inherited his lands.</a:t>
            </a:r>
            <a:r>
              <a:rPr b="0" lang="en-US" sz="2400" spc="-1" strike="noStrike">
                <a:solidFill>
                  <a:srgbClr val="ffffff"/>
                </a:solidFill>
                <a:latin typeface="Garamond"/>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80880" y="304920"/>
            <a:ext cx="8001000" cy="45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Why Arthur Miller wrote “The Crucible”</a:t>
            </a:r>
            <a:r>
              <a:rPr b="0" lang="en-US" sz="2400" spc="-1" strike="noStrike">
                <a:solidFill>
                  <a:srgbClr val="ffffff"/>
                </a:solidFill>
                <a:latin typeface="Garamond"/>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rthur Miller, one of America’s most famous playwrights, lived during the 1950s and experienced the Communist hysteria of the era.  People thought their were Commies everywhere, and one man, Senator Joseph McCarthy, made it his personal mission to find Communists and destroy their lives by bringing them before something called the HOUSE UNAMERICAN ACTIVITIES COMMITTE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04920" y="30492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Garamond"/>
              </a:rPr>
              <a:t>Senator McCarthy accused many people— actors, writers, people in media, people in the military — of being Communists.  He held hearings where people were commanded to give names of other Communists in order for leniency. People were afraid they might be named as Communists, and it was called the Red Scare. (‘Red’ was a word used for a Communi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00:03:33Z</dcterms:created>
  <dc:creator>Laura Preble</dc:creator>
  <dc:description/>
  <dc:language>en-US</dc:language>
  <cp:lastModifiedBy>LaToya</cp:lastModifiedBy>
  <dcterms:modified xsi:type="dcterms:W3CDTF">2012-07-24T03:22:35Z</dcterms:modified>
  <cp:revision>12</cp:revision>
  <dc:subject/>
  <dc:title>The Crucible</dc:title>
</cp:coreProperties>
</file>